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B8B-6766-4C20-BD1B-D834B328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C9F-38F0-433F-BD97-55DE6AD5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257-A758-4CFE-A68F-3B4BDE07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22F-227B-4037-B809-5A3C8B6E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5E02-2165-4E69-8D74-82060146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4A87-BF83-4687-A939-395081B6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BACE-2510-43AE-AA0D-0CB8E095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B4C6-94E9-4F06-A911-D5233001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4D87-7262-40F1-87EB-B7DD350F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4902-41F5-47B0-A2F4-445B02A8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FF0E-FAE2-490B-B992-24DC2A01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390-1C7D-4B4F-A1FF-CD457082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44F2-2109-40CC-B3D2-CEF5B222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95AD-A65D-4D5D-AEE3-80D845E1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D473-7E01-4119-BC45-10B1C85C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9DF5-6F48-4946-8A79-5C1EAF5B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C159-211E-4D71-8E2D-C9651203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78E-91B1-4DCC-9EFE-E63405A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58B-83AD-41DE-B4BC-F23B65C2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67F-FAF3-4B83-9B34-23199390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0C6-9E42-4C99-950D-E44DAD2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0ED-4D45-4794-A3B5-1B8DEBF4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E21-C6D9-403A-B7E9-D7CB9F28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E6D-3915-40BC-804D-A64CCFEF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5642-4E9B-4F6E-87A6-CCA7D162334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E783-7691-4644-A11F-846D2A4EABB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ase del Espano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"/>
              </a:rPr>
              <a:t>By : JESSE an KEYSHAW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r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4286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a famila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m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man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ma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ima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a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rpr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rr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ho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mi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mburges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zz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tch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2934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umerdo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39:34Z</dcterms:created>
  <dc:creator>WSFCS Workstation</dc:creator>
  <dc:description/>
  <dc:language>en-US</dc:language>
  <cp:lastModifiedBy>WSFCS Workstation</cp:lastModifiedBy>
  <dcterms:modified xsi:type="dcterms:W3CDTF">2010-04-28T18:59:57Z</dcterms:modified>
  <cp:revision>2</cp:revision>
  <dc:subject/>
  <dc:title>Clase del Espanol</dc:title>
</cp:coreProperties>
</file>